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82C-23FB-4187-AC9F-BFE520EC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709-A600-4948-95D1-491B7534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365-42F8-4DE2-AF0D-DE64BE91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F7A-C9D8-4852-B21A-DA58F928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6A63-074E-4628-855C-BEF79B4E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F55F-F65C-4D36-AE97-B200CCBC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97A7-37B4-4B31-9E61-93757735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3CE2-C48A-486B-B737-CA963B56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CDE1-D4F1-4089-90FE-6B5CC6C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EE5-D8D9-4D4A-8F2E-83150E3B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3A7-F9A7-458B-A1AB-25FA953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4AB-DB04-48ED-BC7E-3133713C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7AF2-BE88-44B0-9286-842662A1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FBB3-E502-4179-A320-2A754A6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25B4-A491-409D-923E-2F13577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3FD8-3E84-4636-A0FD-EC8DE58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CEF0-0F4E-42EA-B39B-6063F8AF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A21-06F5-4691-B5A0-248D00D5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DBD-461A-485B-ADA2-E36CBF86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283-DE36-4299-B6E6-269C8B4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513-7F67-41A5-A6FE-53DEFB18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471-8751-4564-8C78-5BF13C3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BA4-D066-4568-A508-FCB8EC2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684-10BE-4C43-A4F5-366FD6D9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48BC-2FB4-4712-89E7-94D6C3C48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D951-1F57-4BDC-B619-AE171A44D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jbrookman.me.uk/graphics/index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ne Point of Inter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46240" y="1600200"/>
            <a:ext cx="510084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76520" y="63244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jbrookman.me.uk/graphics/index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ne Line of Inter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658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Triangular Prism –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 Inters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6674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Two Parallel Planes –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 Inters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4849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Three Parallel Planes –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 Inters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501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20:48:09Z</dcterms:created>
  <dc:creator>D. Stead</dc:creator>
  <dc:description/>
  <dc:language>en-US</dc:language>
  <cp:lastModifiedBy>D. Stead</cp:lastModifiedBy>
  <dcterms:modified xsi:type="dcterms:W3CDTF">2007-07-05T20:56:04Z</dcterms:modified>
  <cp:revision>2</cp:revision>
  <dc:subject/>
  <dc:title>One Point of Inters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9913190</vt:r8>
  </property>
  <property fmtid="{D5CDD505-2E9C-101B-9397-08002B2CF9AE}" pid="3" name="_AuthorEmail">
    <vt:lpwstr>Anthony.Azzopardi@ontario.ca</vt:lpwstr>
  </property>
  <property fmtid="{D5CDD505-2E9C-101B-9397-08002B2CF9AE}" pid="4" name="_AuthorEmailDisplayName">
    <vt:lpwstr>Azzopardi, Anthony (EDU)</vt:lpwstr>
  </property>
  <property fmtid="{D5CDD505-2E9C-101B-9397-08002B2CF9AE}" pid="5" name="_EmailSubject">
    <vt:lpwstr>MCV4U Unit 6 Sample Lessons</vt:lpwstr>
  </property>
</Properties>
</file>